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CA8-7F53-4A5F-88AD-67C2CC9F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E26-0ABA-4502-BC90-8EBB757E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274-5F6A-454A-95EA-52C7C85B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7A4-FC68-4EC3-BB3B-822F9945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5D6-05A6-4EF8-994D-4F4D9B0A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AD6-E0F7-47D9-B8B4-C97F6D20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CFF-3094-4171-A779-01BC1BAA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6A3-F6EB-48F5-98E6-7F45E34D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B7E-F0DB-4B2D-80A4-1324AEA1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1B4-1A5D-4F1E-8BFE-CE493094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7FA-73A4-465F-8F4A-D70D94E8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462-DD7C-4CE3-8160-F520EE00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7BAB-0CF9-4C2A-9717-F3A05E98EA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0ce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uadalupe 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li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600200" y="11430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eek City – Sta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http://www.mrdowling.com/images/701olympics.gif"/>
          <p:cNvPicPr/>
          <p:nvPr/>
        </p:nvPicPr>
        <p:blipFill>
          <a:blip r:embed="rId1"/>
          <a:stretch/>
        </p:blipFill>
        <p:spPr>
          <a:xfrm>
            <a:off x="2362320" y="1981080"/>
            <a:ext cx="485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hilosoph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33520" y="1523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 study of wisdom and the right way to l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http://www.discovery-project.eu/images/greco.jpg"/>
          <p:cNvPicPr/>
          <p:nvPr/>
        </p:nvPicPr>
        <p:blipFill>
          <a:blip r:embed="rId1"/>
          <a:stretch/>
        </p:blipFill>
        <p:spPr>
          <a:xfrm>
            <a:off x="3505320" y="2335320"/>
            <a:ext cx="38862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eninsula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04920" y="1371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ea of land nearly surrounded by w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http://www.ionian-islands.org/zante/photos/keri-peninsula-600x450.jpg"/>
          <p:cNvPicPr/>
          <p:nvPr/>
        </p:nvPicPr>
        <p:blipFill>
          <a:blip r:embed="rId1"/>
          <a:stretch/>
        </p:blipFill>
        <p:spPr>
          <a:xfrm>
            <a:off x="838080" y="2111400"/>
            <a:ext cx="632484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eloponnesian War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685800" y="10666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r between Athens and Spar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http://www.buzzle.com/img/articleImages/274814-4866-6.jpg"/>
          <p:cNvPicPr/>
          <p:nvPr/>
        </p:nvPicPr>
        <p:blipFill>
          <a:blip r:embed="rId1"/>
          <a:stretch/>
        </p:blipFill>
        <p:spPr>
          <a:xfrm>
            <a:off x="3124080" y="1709640"/>
            <a:ext cx="47246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Oligarch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09480" y="1523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d of government  that is run by a small group of peo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http://i1.squidoocdn.com/resize/squidoo_images/590/draft_lens8394611module72494711photo_1_1259909965bank-of-greece-nauplion.jpg"/>
          <p:cNvPicPr/>
          <p:nvPr/>
        </p:nvPicPr>
        <p:blipFill>
          <a:blip r:embed="rId1"/>
          <a:stretch/>
        </p:blipFill>
        <p:spPr>
          <a:xfrm>
            <a:off x="1295280" y="2602080"/>
            <a:ext cx="57913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arbor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990720" y="17524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eltered place along a coastl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http://kypros.org/Occupied_Cyprus/cyprus1974/images/villages_towns/Kyrenia_harbor_750_bg.jpg"/>
          <p:cNvPicPr/>
          <p:nvPr/>
        </p:nvPicPr>
        <p:blipFill>
          <a:blip r:embed="rId1"/>
          <a:srcRect l="0" t="0" r="593" b="16619"/>
          <a:stretch/>
        </p:blipFill>
        <p:spPr>
          <a:xfrm>
            <a:off x="1066680" y="2895480"/>
            <a:ext cx="583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7" descr="http://t2.gstatic.com/images?q=tbn:ANd9GcTmBMOg4L_J_7FVYoyjkB-y4M_3iAYYfeo9p4z0SGzG1LCplyST6g"/>
          <p:cNvPicPr/>
          <p:nvPr/>
        </p:nvPicPr>
        <p:blipFill>
          <a:blip r:embed="rId1"/>
          <a:stretch/>
        </p:blipFill>
        <p:spPr>
          <a:xfrm>
            <a:off x="609480" y="1819440"/>
            <a:ext cx="765828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place where Greeks built their city-states arou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6" descr="http://t1.gstatic.com/images?q=tbn:ANd9GcQWN7Ww6w-GgDmiHM0Tp34UcFlTqDZ6l-eoQnamnvmIuoAsC7Qf"/>
          <p:cNvPicPr/>
          <p:nvPr/>
        </p:nvPicPr>
        <p:blipFill>
          <a:blip r:embed="rId1"/>
          <a:stretch/>
        </p:blipFill>
        <p:spPr>
          <a:xfrm>
            <a:off x="1295280" y="1663560"/>
            <a:ext cx="67820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embl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752480" y="121932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awmaking place where people voted on issues that helped their c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http://t3.gstatic.com/images?q=tbn:ANd9GcTRrSAujRaF5so5EPfejbqud-KITRHdZW7MfmSQrkQ5Nk5aJvzd"/>
          <p:cNvPicPr/>
          <p:nvPr/>
        </p:nvPicPr>
        <p:blipFill>
          <a:blip r:embed="rId1"/>
          <a:stretch/>
        </p:blipFill>
        <p:spPr>
          <a:xfrm>
            <a:off x="2666880" y="2035080"/>
            <a:ext cx="50292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600200" y="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itiz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0" y="9144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erson who has certain right and responsibilities to his or her country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63360" y="-725400"/>
            <a:ext cx="26672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63360" y="-725400"/>
            <a:ext cx="26672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63360" y="-725400"/>
            <a:ext cx="26672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63360" y="-725400"/>
            <a:ext cx="26672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63360" y="-801720"/>
            <a:ext cx="27813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5" descr="http://farm8.staticflickr.com/7158/6813133621_33d9d0b23d_z.jpg"/>
          <p:cNvPicPr/>
          <p:nvPr/>
        </p:nvPicPr>
        <p:blipFill>
          <a:blip r:embed="rId1"/>
          <a:stretch/>
        </p:blipFill>
        <p:spPr>
          <a:xfrm>
            <a:off x="1143000" y="1519200"/>
            <a:ext cx="80010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362320" y="5335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olo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533520" y="14479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roup of people who  lived apart from Greece but kept economic ties with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3360" y="-725400"/>
            <a:ext cx="26672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7" descr="http://www.utexas.edu/courses/greeksahoy!/greek_colonies_550.jpg"/>
          <p:cNvPicPr/>
          <p:nvPr/>
        </p:nvPicPr>
        <p:blipFill>
          <a:blip r:embed="rId1"/>
          <a:stretch/>
        </p:blipFill>
        <p:spPr>
          <a:xfrm>
            <a:off x="2895480" y="2819520"/>
            <a:ext cx="48960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1752480" y="68580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emocrac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066680" y="175248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rm of government where people vote to make decision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ttp://www.esotericquest.org/greece/images/history.jpg"/>
          <p:cNvPicPr/>
          <p:nvPr/>
        </p:nvPicPr>
        <p:blipFill>
          <a:blip r:embed="rId1"/>
          <a:stretch/>
        </p:blipFill>
        <p:spPr>
          <a:xfrm>
            <a:off x="2209680" y="2819520"/>
            <a:ext cx="49532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2743200" y="3049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Ju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219320" y="15238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ear evidence  and make decisions in a court of la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63360" y="-90180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3360" y="-90180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9" descr="http://greece.mrdonn.org/greece09.gif"/>
          <p:cNvPicPr/>
          <p:nvPr/>
        </p:nvPicPr>
        <p:blipFill>
          <a:blip r:embed="rId1"/>
          <a:stretch/>
        </p:blipFill>
        <p:spPr>
          <a:xfrm>
            <a:off x="1905120" y="2819520"/>
            <a:ext cx="60958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Monarch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609480" y="1447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vernment headed by one rul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2"/>
          <p:cNvSpPr/>
          <p:nvPr/>
        </p:nvSpPr>
        <p:spPr>
          <a:xfrm>
            <a:off x="63360" y="-749160"/>
            <a:ext cx="2286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http://ihac.nenu.edu.cn/images/guxila00.jpg"/>
          <p:cNvPicPr/>
          <p:nvPr/>
        </p:nvPicPr>
        <p:blipFill>
          <a:blip r:embed="rId1"/>
          <a:stretch/>
        </p:blipFill>
        <p:spPr>
          <a:xfrm>
            <a:off x="1295280" y="2457360"/>
            <a:ext cx="67820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9:18Z</dcterms:modified>
  <cp:revision>93</cp:revision>
  <dc:subject/>
  <dc:title>Ancient Greece</dc:title>
</cp:coreProperties>
</file>